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3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35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872D-31BA-4EED-B1F9-57FF55C29EBF}" type="slidenum">
              <a:rPr b="0" lang="en-US" sz="2400" spc="-1" strike="noStrike">
                <a:solidFill>
                  <a:srgbClr val="000000"/>
                </a:solidFill>
                <a:latin typeface="Book Antiqua"/>
              </a:rPr>
              <a:t>&lt;number&gt;</a:t>
            </a:fld>
            <a:endParaRPr b="0" lang="en-US" sz="2400" spc="-1" strike="noStrike">
              <a:solidFill>
                <a:srgbClr val="000000"/>
              </a:solidFill>
              <a:latin typeface="Book Antiqua"/>
            </a:endParaRPr>
          </a:p>
        </p:txBody>
      </p:sp>
      <p:sp>
        <p:nvSpPr>
          <p:cNvPr id="404" name="PlaceHolder 1"/>
          <p:cNvSpPr>
            <a:spLocks noGrp="1"/>
          </p:cNvSpPr>
          <p:nvPr>
            <p:ph type="sldImg"/>
          </p:nvPr>
        </p:nvSpPr>
        <p:spPr>
          <a:xfrm>
            <a:off x="1150920" y="692280"/>
            <a:ext cx="4556160" cy="341604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50920" y="692280"/>
            <a:ext cx="4556160" cy="3416040"/>
          </a:xfrm>
          <a:prstGeom prst="rect">
            <a:avLst/>
          </a:prstGeom>
          <a:ln w="0">
            <a:noFill/>
          </a:ln>
        </p:spPr>
      </p:sp>
      <p:sp>
        <p:nvSpPr>
          <p:cNvPr id="423" name="Rectangle 3"/>
          <p:cNvSpPr/>
          <p:nvPr/>
        </p:nvSpPr>
        <p:spPr>
          <a:xfrm>
            <a:off x="572040" y="4519440"/>
            <a:ext cx="543780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evised PPE standard did not change the existing respirator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ve equipment standard.  However, let’s take a few minut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review this standard so that we’re all aware of the requiremen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wo basic types of respirators are the air purifying type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tmosphere supplying typ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ir purifying respirators use filters or sorbents to remove harmful</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bstances from the air.  They include simple disposal mask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range to sophisticated filtering devices.  This equipment do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 supply oxygen and is not to be used in oxygen deficient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ther harmful atmospher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mosphere supplying respirators are designed to provid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reathable air from a clean air source.  The two types of</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mosphere supplying respirators are the self-contain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reathing apparatus and the supplied air respirator. </a:t>
            </a:r>
            <a:endParaRPr b="0" lang="en-US" sz="14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50920" y="692280"/>
            <a:ext cx="4556160" cy="3416040"/>
          </a:xfrm>
          <a:prstGeom prst="rect">
            <a:avLst/>
          </a:prstGeom>
          <a:ln w="0">
            <a:noFill/>
          </a:ln>
        </p:spPr>
      </p:sp>
      <p:sp>
        <p:nvSpPr>
          <p:cNvPr id="425" name="Rectangle 3"/>
          <p:cNvSpPr/>
          <p:nvPr/>
        </p:nvSpPr>
        <p:spPr>
          <a:xfrm>
            <a:off x="572400" y="4138560"/>
            <a:ext cx="5794200" cy="477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ad protection is to be provided to protect against overhea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lling hazards or exposed electrical conductors that could contac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ea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industrial purposes, three classes of protective head devic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re recognized:  Class A is the typical hard hat worn by construction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which provides general impact protection and electrical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up to 2,200 vol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ass B helmets are specifically designed to protect from high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oltage electrical hazards and are rated to provide protection up</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22,000 vol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ass C helmets are lightweight and designed to provide bump</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only.  Electrical contact is not anticipated since thes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lmets are typically constructed of aluminum, an excell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ductor of electricity.  They are typically used in oil field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fineries and chemical plan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ou should be able to identify the type of helmet you’re using b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oking inside the shell for the manufacturer’s name, ANSI design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class rating.</a:t>
            </a:r>
            <a:endParaRPr b="0" lang="en-US" sz="14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50920" y="692280"/>
            <a:ext cx="4556160" cy="3416040"/>
          </a:xfrm>
          <a:prstGeom prst="rect">
            <a:avLst/>
          </a:prstGeom>
          <a:ln w="0">
            <a:noFill/>
          </a:ln>
        </p:spPr>
      </p:sp>
      <p:sp>
        <p:nvSpPr>
          <p:cNvPr id="427" name="Rectangle 3"/>
          <p:cNvSpPr/>
          <p:nvPr/>
        </p:nvSpPr>
        <p:spPr>
          <a:xfrm>
            <a:off x="722520" y="4138560"/>
            <a:ext cx="5686200" cy="584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nd protection is necessary when there is exposure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zardous chemicals or other substances, severe cut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acerations, severe abrasions, punctures, chemical burn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emperature extrem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eep in mind that no glove is resistant to all chemicals.  Using a</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love designed to resist one chemical may be totally inappropriat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use with another chemical.  Manufacturers data should be refer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if in doubt of the specific resistance qualities of a glov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ubber protective equipment for electrical workers must confor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the the requirements established by ANSI.</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 of glove selected should fit the requirements and hazard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ociated with the particular job.  Glove selection should include:</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oxic properties of the chemicals use.</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work being performed including the degree of dexterity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needed as well as the duration, frequency, and degree of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hemical exposures.</a:t>
            </a:r>
            <a:endParaRPr b="0" lang="en-US" sz="14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performance characteristics of the gloves, such as </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resistance to chemicals, punctures, tears, and abrasions.</a:t>
            </a: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50920" y="692280"/>
            <a:ext cx="4556160" cy="3416040"/>
          </a:xfrm>
          <a:prstGeom prst="rect">
            <a:avLst/>
          </a:prstGeom>
          <a:ln w="0">
            <a:noFill/>
          </a:ln>
        </p:spPr>
      </p:sp>
      <p:sp>
        <p:nvSpPr>
          <p:cNvPr id="429" name="Rectangle 3"/>
          <p:cNvSpPr/>
          <p:nvPr/>
        </p:nvSpPr>
        <p:spPr>
          <a:xfrm>
            <a:off x="492840" y="4443480"/>
            <a:ext cx="5829480" cy="477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ot protection is to be provided where hazards are encounte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expose the feet to rolling hazards (such as roll paper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il steel), objects capable of piercing the sole (such as heavy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auge metal staples), or where feet are exposed to electrical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es or boots are available that provide impact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pression protection and puncture protection.  Safety shoe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uld be sturdy and provide an impact-resistant toe.  In som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oes, metal soles protect against sole puncture.  Additional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ch as metatarsal guards is also available.  Safety shoes come in a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de variety of styles and material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SI standards specify the requirements and testing procedur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specifications associated with compression and impact tes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eggings protect the lower leg and feet against exposure to molten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al  and welding sparks.  Safety snaps provide the wear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ans of rapid removal of the legging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914400" y="4495320"/>
            <a:ext cx="5029200" cy="39625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s with our discussion about chemically-resistant gloves, make sure that the torso protection provided is specifically manufactured to resist the particular chemical or other hazardous substance that you are working with.  Mixing of equipment within different operations is not condoned.</a:t>
            </a:r>
            <a:endParaRPr b="0" lang="en-US" sz="1400" spc="-1" strike="noStrike">
              <a:solidFill>
                <a:srgbClr val="000000"/>
              </a:solidFill>
              <a:latin typeface="Book Antiqua"/>
            </a:endParaRPr>
          </a:p>
        </p:txBody>
      </p:sp>
      <p:sp>
        <p:nvSpPr>
          <p:cNvPr id="43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body"/>
          </p:nvPr>
        </p:nvSpPr>
        <p:spPr>
          <a:xfrm>
            <a:off x="914400" y="4191120"/>
            <a:ext cx="5029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Review each of these points with the workers.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Equipment should fit the individual worker and should be reasonably comfortable.  The equipment should not be altered or modified by the worker or it’s effectiveness may be compromised.   </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Equipment should be kept clean by the individual worker.  Follow manufacturer s instructions.  Cleaning PPE is important for sanitary reasons and is usually easily accomplished.  For example, cleaning of hard hat shells can be done by dipping them for at least one minute in hot water, approximately 140 degrees F, that contains a mild detergent.  Shells can be scrubbed and then rinsed in clear hot water.  After rinsing, shells can be inspected for cracks or other signs of damage.</a:t>
            </a:r>
            <a:endParaRPr b="0" lang="en-US" sz="1400" spc="-1" strike="noStrike">
              <a:solidFill>
                <a:srgbClr val="000000"/>
              </a:solidFill>
              <a:latin typeface="Book Antiqu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Daily inspection of PPE by the worker of assigned PPE ensures that no unfit equipment is being used.   A supply of new PPE should be established so that replacement is immediate.</a:t>
            </a:r>
            <a:endParaRPr b="0" lang="en-US" sz="14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3"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Lead a final discussion on key points covered and </a:t>
            </a:r>
            <a:r>
              <a:rPr b="0" lang="en-US" sz="1600" spc="-1" strike="noStrike">
                <a:solidFill>
                  <a:srgbClr val="000000"/>
                </a:solidFill>
                <a:latin typeface="Book Antiqua"/>
              </a:rPr>
              <a:t> again remind workers that PPE does not eliminate the hazard, it only provides one additional barrier of protection.</a:t>
            </a:r>
            <a:endParaRPr b="0" lang="en-US" sz="1600" spc="-1" strike="noStrike">
              <a:solidFill>
                <a:srgbClr val="000000"/>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k for any final questions and thank all for attending.</a:t>
            </a:r>
            <a:endParaRPr b="0" lang="en-US" sz="1600" spc="-1" strike="noStrike">
              <a:solidFill>
                <a:srgbClr val="000000"/>
              </a:solidFill>
              <a:latin typeface="Book Antiqu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sp>
        <p:nvSpPr>
          <p:cNvPr id="435"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50920" y="692280"/>
            <a:ext cx="4556160" cy="3416040"/>
          </a:xfrm>
          <a:prstGeom prst="rect">
            <a:avLst/>
          </a:prstGeom>
          <a:ln w="0">
            <a:noFill/>
          </a:ln>
        </p:spPr>
      </p:sp>
      <p:sp>
        <p:nvSpPr>
          <p:cNvPr id="407" name="Rectangle 3"/>
          <p:cNvSpPr/>
          <p:nvPr/>
        </p:nvSpPr>
        <p:spPr>
          <a:xfrm>
            <a:off x="747720" y="4192560"/>
            <a:ext cx="5041800" cy="435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ederal Occupational Safety and Health Administr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SHA) issued a revised Personal Protective Equipment (PPE) standard in 1994. OSHA‘s revised standard becam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ffective on 7/5/94, with the exception of  the Hazar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essment and Employee Training requirement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ich became effective 90 days lat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regulation applies to the use, selection, maintenan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t and disposal of PPE.  It also requires employers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sess existing job hazards in their workplace and select th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per type of PPE for workers to use that will provide one additional barrier against job injuri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SHA makes it clear that PPE is </a:t>
            </a:r>
            <a:r>
              <a:rPr b="0" i="1" lang="en-US" sz="1400" spc="-1" strike="noStrike" u="sng">
                <a:solidFill>
                  <a:srgbClr val="000000"/>
                </a:solidFill>
                <a:uFillTx/>
                <a:latin typeface="Arial"/>
              </a:rPr>
              <a:t>not</a:t>
            </a:r>
            <a:r>
              <a:rPr b="0" i="1" lang="en-US" sz="1400" spc="-1" strike="noStrike">
                <a:solidFill>
                  <a:srgbClr val="000000"/>
                </a:solidFill>
                <a:latin typeface="Arial"/>
              </a:rPr>
              <a:t> a substitute fo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gineering, administrative or work practice control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ut an additional control to be used in conjunction with</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thers, to present a barrier against specific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zards.  Each of you needs to be aware that this equip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es not eliminate the hazard.  If the equipment fails,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posure and possibility of injury remain.</a:t>
            </a:r>
            <a:endParaRPr b="0" lang="en-US" sz="14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50920" y="692280"/>
            <a:ext cx="4556160" cy="3416040"/>
          </a:xfrm>
          <a:prstGeom prst="rect">
            <a:avLst/>
          </a:prstGeom>
          <a:ln w="0">
            <a:noFill/>
          </a:ln>
        </p:spPr>
      </p:sp>
      <p:sp>
        <p:nvSpPr>
          <p:cNvPr id="409" name="Rectangle 3"/>
          <p:cNvSpPr/>
          <p:nvPr/>
        </p:nvSpPr>
        <p:spPr>
          <a:xfrm>
            <a:off x="649440" y="4595760"/>
            <a:ext cx="537372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general requirements of this standard require each employe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select appropriate PPE based on the hazards that are pres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 </a:t>
            </a:r>
            <a:r>
              <a:rPr b="0" i="1" lang="en-US" sz="1400" spc="-1" strike="noStrike" u="sng">
                <a:solidFill>
                  <a:srgbClr val="000000"/>
                </a:solidFill>
                <a:uFillTx/>
                <a:latin typeface="Arial"/>
              </a:rPr>
              <a:t>are likely to be present</a:t>
            </a:r>
            <a:r>
              <a:rPr b="0" i="1" lang="en-US" sz="1400" spc="-1" strike="noStrike">
                <a:solidFill>
                  <a:srgbClr val="000000"/>
                </a:solidFill>
                <a:latin typeface="Arial"/>
              </a:rPr>
              <a:t> in the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employer is to provide the necessary equip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take measures so as to prohibit the use of damaged or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fective equip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employer is also to take the role of training employe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 the proper use, fit, maintenance, life expectancy an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sposal of PPE.  Workers are to be trained to recogniz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understand the potential hazards within the workplac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how to correctly use the PPE provided to them and that’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ur purpose today.   However, please understand tha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PE that may be assigned to each of you does not eliminat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hazard and can only protect you if it is used and maintain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s it was designed to do. </a:t>
            </a:r>
            <a:endParaRPr b="0" lang="en-US" sz="14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50920" y="692280"/>
            <a:ext cx="4556160" cy="3416040"/>
          </a:xfrm>
          <a:prstGeom prst="rect">
            <a:avLst/>
          </a:prstGeom>
          <a:ln w="0">
            <a:noFill/>
          </a:ln>
        </p:spPr>
      </p:sp>
      <p:sp>
        <p:nvSpPr>
          <p:cNvPr id="411" name="Rectangle 3"/>
          <p:cNvSpPr/>
          <p:nvPr/>
        </p:nvSpPr>
        <p:spPr>
          <a:xfrm>
            <a:off x="495000" y="4290840"/>
            <a:ext cx="5655600" cy="435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rs are further required to assess the workplace to determin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hazards that require the use of PPE are present or </a:t>
            </a:r>
            <a:r>
              <a:rPr b="0" i="1" lang="en-US" sz="1400" spc="-1" strike="noStrike" u="sng">
                <a:solidFill>
                  <a:srgbClr val="000000"/>
                </a:solidFill>
                <a:uFillTx/>
                <a:latin typeface="Arial"/>
              </a:rPr>
              <a:t>are likel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to be present.</a:t>
            </a:r>
            <a:r>
              <a:rPr b="0" i="1" lang="en-US" sz="1400" spc="-1" strike="noStrike">
                <a:solidFill>
                  <a:srgbClr val="000000"/>
                </a:solidFill>
                <a:latin typeface="Arial"/>
              </a:rPr>
              <a:t>  If so, the employer must select and have affect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es use properly fitted PPE designed to protec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from the identified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requirement states that employers must certify in writ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a workplace hazard assessment has been perform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ce the assessment is completed, PPE has been provided,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kers trained in it’s use, then the employer and worker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ust work together to ensure that defective or damaged PPE i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t used and is replaced as necessar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 the results of an actual workplace hazard assess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been conducted or outline future plans to do so.</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Now that we’ve discussed the hazard assessmen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PPE selection steps, let’s review what training is to be provid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workers...</a:t>
            </a:r>
            <a:endParaRPr b="0" lang="en-US" sz="14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50920" y="692280"/>
            <a:ext cx="4556160" cy="3416040"/>
          </a:xfrm>
          <a:prstGeom prst="rect">
            <a:avLst/>
          </a:prstGeom>
          <a:ln w="0">
            <a:noFill/>
          </a:ln>
        </p:spPr>
      </p:sp>
      <p:sp>
        <p:nvSpPr>
          <p:cNvPr id="413" name="Rectangle 3"/>
          <p:cNvSpPr/>
          <p:nvPr/>
        </p:nvSpPr>
        <p:spPr>
          <a:xfrm>
            <a:off x="648000" y="4748040"/>
            <a:ext cx="5052240" cy="3072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es are to trained </a:t>
            </a:r>
            <a:r>
              <a:rPr b="0" i="1" lang="en-US" sz="1400" spc="-1" strike="noStrike" u="sng">
                <a:solidFill>
                  <a:srgbClr val="000000"/>
                </a:solidFill>
                <a:uFillTx/>
                <a:latin typeface="Arial"/>
              </a:rPr>
              <a:t>before</a:t>
            </a:r>
            <a:r>
              <a:rPr b="0" i="1" lang="en-US" sz="1400" spc="-1" strike="noStrike">
                <a:solidFill>
                  <a:srgbClr val="000000"/>
                </a:solidFill>
                <a:latin typeface="Arial"/>
              </a:rPr>
              <a:t> doing work that requires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e of PPE.  This training is to consist of  knowing when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ar the equipment, what type is necessary, how it is to b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orn, and what it’s limitations are.  In addition, the proper</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re, maintenance, useful life and disposal procedures ar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be discussed.  We will be covering this information toda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mployers are required to certify in writing that training</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s been completed and that employees understand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ining.  Therefore, we ask that none of you leave here toda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thout a clear understanding of the use and care of PP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at may be assigned to you.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50920" y="692280"/>
            <a:ext cx="4556160" cy="3416040"/>
          </a:xfrm>
          <a:prstGeom prst="rect">
            <a:avLst/>
          </a:prstGeom>
          <a:ln w="0">
            <a:noFill/>
          </a:ln>
        </p:spPr>
      </p:sp>
      <p:sp>
        <p:nvSpPr>
          <p:cNvPr id="415" name="Rectangle 3"/>
          <p:cNvSpPr/>
          <p:nvPr/>
        </p:nvSpPr>
        <p:spPr>
          <a:xfrm>
            <a:off x="570600" y="4443480"/>
            <a:ext cx="5410440" cy="3072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ypes of PPE referenced in this standard include cloth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spiratory devices, protective shields and barrier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PPE is designed to protect the eyes, face, head, torso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tremities from hazards in the workplac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hazards may be process hazards and they may b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vironmental, chemical, radiological, or mechanical in natur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se hazards can result in bodily injury through the processe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absorption (being absorbed through the skin), inhalation (being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haled into the lungs) or through other means of physical contact.</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et’s discuss the various types of PPE...</a:t>
            </a:r>
            <a:endParaRPr b="0" lang="en-US" sz="14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50920" y="692280"/>
            <a:ext cx="4556160" cy="3416040"/>
          </a:xfrm>
          <a:prstGeom prst="rect">
            <a:avLst/>
          </a:prstGeom>
          <a:ln w="0">
            <a:noFill/>
          </a:ln>
        </p:spPr>
      </p:sp>
      <p:sp>
        <p:nvSpPr>
          <p:cNvPr id="417" name="Rectangle 3"/>
          <p:cNvSpPr/>
          <p:nvPr/>
        </p:nvSpPr>
        <p:spPr>
          <a:xfrm>
            <a:off x="645840" y="4672080"/>
            <a:ext cx="5669280" cy="371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OSHA standard primarily deals with these types of protec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merican National Standards Institute (ANSI) has publishe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formance standards that manufacturers must meet in designing,</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ufacturing, and testing many of these types of equipment.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SI label or tag on equipment indicates that this design standard</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as been met and assures product quality.</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efly touch on each type listed abov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ITION:  Let’s discuss each major type of PPE, one by one...</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structor’s Note</a:t>
            </a:r>
            <a:r>
              <a:rPr b="0" lang="en-US" sz="1400" spc="-1" strike="noStrike">
                <a:solidFill>
                  <a:srgbClr val="000000"/>
                </a:solidFill>
                <a:latin typeface="Arial"/>
              </a:rPr>
              <a:t>:  The next 7 slides cover each of the items list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in more detail.  Be sure to discuss and demonstrate the actual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pment that is applicable to your workplace.  Demonstrate th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 care and fitness adjustments with each piece of equipment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50920" y="692280"/>
            <a:ext cx="4556160" cy="3416040"/>
          </a:xfrm>
          <a:prstGeom prst="rect">
            <a:avLst/>
          </a:prstGeom>
          <a:ln w="0">
            <a:noFill/>
          </a:ln>
        </p:spPr>
      </p:sp>
      <p:sp>
        <p:nvSpPr>
          <p:cNvPr id="419" name="Rectangle 3"/>
          <p:cNvSpPr/>
          <p:nvPr/>
        </p:nvSpPr>
        <p:spPr>
          <a:xfrm>
            <a:off x="493920" y="4290840"/>
            <a:ext cx="5452920" cy="4138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ye and face equipment is designed to protect the body fro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lying particles, molten metal, liquid chemicals, acids, caustic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quids, chemical gases or vapors, and light radiation.</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fety glasses used to protect against flying particles are require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 be equipped with sideshields.  Additional protection needs to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e worn over non-safety prescription lenses and contacts.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cidentally, OSHA does not consider contact lenses to be a form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eye protection, but  neither does it consider contacts to b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etrimental to the wearer’s safety and health.</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tection is to be taken against multiple hazards.  An example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s a welder that may be exposed to both flying particles an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ght radiation. Protection must be provided against both hazards</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not  just the more severe hazard.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quipment to protect the eyes and face come in a wide variety of</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ypes and styles including certain hard hats equipped with </a:t>
            </a:r>
            <a:endParaRPr b="0" lang="en-US" sz="1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 shields.  </a:t>
            </a:r>
            <a:endParaRPr b="0" lang="en-US" sz="14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body"/>
          </p:nvPr>
        </p:nvSpPr>
        <p:spPr>
          <a:xfrm>
            <a:off x="914400" y="4191120"/>
            <a:ext cx="5029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Hearing loss usually happens gradually over a period of time so that the worker may not even realize the extent of the loss until it is too late.  Hearing loss that occurs in this fashion is usually permanent and irreversibl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Hearing needs to be protected when noise levels reach or exceed 85 decibels (measured on the A scale) for an 8 hour exposure tim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Short bursts of noise that exceed even higher decibel levels can also require hearing protection as a control measure.</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s protection, earplugs generally offer the most protection.  Foam earplugs that fit snugly are the most effective. To insert properly, roll the earplug into a small diameter, place it well into the ear canal, and insert.  It may help to pull your ear back and up as you insert the plug.</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After you have inserted it, hold the plug in your ear for a few seconds to ensure a good fit.</a:t>
            </a:r>
            <a:endParaRPr b="0" lang="en-US" sz="1400" spc="-1" strike="noStrike">
              <a:solidFill>
                <a:srgbClr val="000000"/>
              </a:solidFill>
              <a:latin typeface="Book Antiqua"/>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larendon Cd (W1)"/>
              </a:rPr>
              <a:t>Earmuffs fit over the outside of your ear.  Their effectiveness is limited by the seal they form around the ear.  Facial hair, earrings, and eyeglasses can all compromise the effectiveness of this seal.  The sponge material that forms the seal also needs to be in good condition with no cracks or leaks.</a:t>
            </a:r>
            <a:endParaRPr b="0" lang="en-US" sz="1400" spc="-1" strike="noStrike">
              <a:solidFill>
                <a:srgbClr val="000000"/>
              </a:solidFill>
              <a:latin typeface="Book Antiqua"/>
            </a:endParaRPr>
          </a:p>
        </p:txBody>
      </p:sp>
      <p:sp>
        <p:nvSpPr>
          <p:cNvPr id="42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F988F-C349-4EC0-8E9D-D7957229C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18A8F-B1AD-4786-B609-8DFD3C42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64482-9BFB-433C-A92F-E49762053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D24B6-EE83-49F3-BBD9-B87C26F05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6D323-8C79-4D98-AF4B-63404C4A9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1A40B-31B3-44DF-818B-7DB8ACF71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8AB8C-34D6-4687-B0B8-2A14F9B09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0C2AB-84C7-485C-BF97-5F46E3BEE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7C386-23A4-4530-AB66-707429E01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4D889-B8DF-42EC-96F4-B1C6D68D6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74AF8-0368-4544-9F56-BA0ABE624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2568-2994-4BAB-A2B5-A74124549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8983-B629-4CC4-981F-2A122E96F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18114-7AE8-4E8D-9C55-D56718352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07924-0179-42A7-8AAF-DAE024151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0C174-AD88-475D-9E50-FCA87F119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778EC-9383-4FAC-8147-37E7CEC42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4F455A-4383-4323-A077-0F10051B74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DD0BEA-5508-4A57-BC5B-580FCCCD1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53716D-25D1-471B-A09B-72F7A1C83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880710-73E0-4944-A711-E671D4277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EE19B7-9C9E-485F-9F33-6457600E6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82749-30AB-46CE-B460-4645BD81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E4DB2B-CC77-4653-890A-2C6542FC0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3AAEB2-D6B5-44FE-BBCE-9862DEE01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EC039A-3824-4098-85A9-69FF5BD1F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49768B-4F30-4B41-BDAE-8699EC400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6B5277-6FB9-4C4C-B6A8-C12A07B95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44232D4-E481-48D3-8A10-2C16B7906E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E849A53-2CF5-4FF0-BE6F-8EEB12401B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369BF3C-E256-4831-ACD6-4C70C1FBE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0DBD84-219E-4E0C-939A-52E883B1A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48DBA2-30FE-4021-8DAA-CCA783DEF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5BFD-E3DF-411C-ADDC-FDBA6958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F8F48F-3E3D-4955-9718-D6E2D08F5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003B1E-D317-4718-9BA4-1DE5A80D89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7CD21B-CBFF-479D-8327-986D026F2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A7A13A-9FAA-4AD2-BF99-E93020B9E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9DF695-372E-4D70-8ED7-C5A28C136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11AF01-7D1E-4668-B413-3C4FB3397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CA72A5-8832-41F7-97F9-262215022A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24EF32-0D09-408E-BC76-3BE52EB227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6768C68-7EEE-47B3-A504-28AEB90C2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019D150-A82B-44A9-A8D6-0E376570C6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B11C-45BC-4E27-A1DD-49BC9F8C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8A95B0-246E-4AA5-9F84-41DFFAFAB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194AEE-6BB9-42BE-A9A9-E0F2432A18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227C04-8783-47CF-ADAD-4A1B536996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F87110-E7C0-496F-B948-882700ADE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0560D5-96E1-4720-BA64-26FE3D0EA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345CBB-94E1-46C4-A05D-A972ECB2A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5AEDA7-10A2-43DE-8DFE-0C8AE7E7A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574958-14BF-4F7F-8ED5-D6EEAFBD1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4B37F2-6618-4B84-BA2D-4669B66A6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16DE8C1-D15C-47CF-A580-AB295C616E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2180B-7D8B-4516-9E9F-B9A2AA9BE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AE2BCD-3A54-4E39-B715-30EB1A71A4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D44348-5111-45CF-8D65-86944ACE7E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7CD0F6-424D-470E-8A12-EB077E16EF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E08F16-A4C8-45B5-AC1A-339FB47DC1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BF623B-EEA3-400D-A766-86F762B364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A539EF-5DF9-4348-BA12-B13ACCF7E8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77EE32-8778-4207-BC80-823ED3F7E4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0386A-1EC6-4797-A5A0-A8738FA2D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F8CC5-3099-4DB9-8E10-E7574A95F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7ACCB-5D96-4912-88D7-CB27D12BC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955C-76A2-48D6-B4EC-4A46417D9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F7DE52-4A96-4E2D-868C-283BD3D43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438E46-DBA4-4587-937B-005CEE4935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72DBB5-AFA4-492D-B8CD-E40508274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88EA106-5E64-462B-A9BE-A74A927E44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F41A082-4D6C-471A-BFD6-D3EC77156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70445B8-C059-4F24-BDF6-4F4DEF639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E01E3B-7993-454F-AEC6-03FA6767C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5F63D2B-F1D3-4D28-B0AD-A0AD402FAD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78FF1A-A229-4FE9-9535-A4DD2FEEB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5F2E58-1121-4189-93A9-3247C0276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B19C-4657-40C0-92CF-454F2DCE3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95CD3D-C401-4BB9-B2A8-DBD528FE5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E1795C6-99F8-4C76-9BBA-3168B1F63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1CF41DC-C0FB-493E-BCF9-0F2DA24BCB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A7C7BC6-7699-4861-91AC-52C87C17B8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C60EC00-A290-49AD-948E-201B67CC17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AAFD90-5523-467C-8261-F4D9085F8B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E34B0C-B6D0-4279-912B-250A8D3282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7E4991-388E-43DF-B4EC-3A2FF8060F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83A15-D151-4D78-ABFC-4B858F696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6D3A9-F2E7-46D9-B30B-FD3D016A84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D5ECA-FF1A-4687-AF6F-44B0894B1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ECA9AC-6BDF-4284-8CD5-F0371B6D75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E8FFE-8D69-4F47-8F30-58C07A448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4B329-B6ED-4C97-A25E-C8283E41D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EBD6C0-58CC-4F66-8E79-7A2159110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C8A452-D722-49FD-847C-75D62D2B3B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2BF409-6438-4D89-B663-87E0237101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147F71-E166-4002-A2BA-53445057F37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9E7E-A4EF-4CAC-ABA4-A4AF6CA5BE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05BE-D9D0-413E-864D-1F4869ED012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06B8-34E0-4490-B256-55A7973F45C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7A40-FAFE-4717-8C47-446CC7B9BC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6BD5-779D-4249-B114-3A7D2CBD50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A594-5DD8-4391-9C27-404B5BA4E18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B7F0-5ACA-45B9-B453-A88DE8C3CF80}"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4D9D-F582-49EA-83F4-4311E350F9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http://www.online-templatestore.com/" TargetMode="External"/><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dc3"/>
                </a:solidFill>
                <a:latin typeface="Tw Cen MT"/>
              </a:rPr>
              <a:t>PERSONAL PROTECTIVE EQUIPMENT </a:t>
            </a:r>
            <a:endParaRPr b="0" lang="en-US" sz="4400" spc="-1" strike="noStrike">
              <a:solidFill>
                <a:srgbClr val="ebddc3"/>
              </a:solidFill>
              <a:latin typeface="Tw Cen MT"/>
            </a:endParaRPr>
          </a:p>
        </p:txBody>
      </p:sp>
      <p:sp>
        <p:nvSpPr>
          <p:cNvPr id="354"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w Cen MT"/>
              </a:rPr>
              <a:t>SAFETY TRAINING MODULE</a:t>
            </a:r>
            <a:endParaRPr b="0" lang="en-US" sz="2600" spc="-1" strike="noStrike">
              <a:solidFill>
                <a:srgbClr val="ffffff"/>
              </a:solidFill>
              <a:latin typeface="Tw Cen MT"/>
            </a:endParaRPr>
          </a:p>
        </p:txBody>
      </p:sp>
      <p:graphicFrame>
        <p:nvGraphicFramePr>
          <p:cNvPr id="355" name="Object 2"/>
          <p:cNvGraphicFramePr/>
          <p:nvPr/>
        </p:nvGraphicFramePr>
        <p:xfrm>
          <a:off x="0" y="0"/>
          <a:ext cx="4572000" cy="2819520"/>
        </p:xfrm>
        <a:graphic>
          <a:graphicData uri="http://schemas.openxmlformats.org/presentationml/2006/ole">
            <p:oleObj r:id="rId1" spid="">
              <p:embed/>
              <p:pic>
                <p:nvPicPr>
                  <p:cNvPr id="356" name="Object 2" descr=""/>
                  <p:cNvPicPr/>
                  <p:nvPr/>
                </p:nvPicPr>
                <p:blipFill>
                  <a:blip r:embed="rId2"/>
                  <a:stretch/>
                </p:blipFill>
                <p:spPr>
                  <a:xfrm>
                    <a:off x="0" y="0"/>
                    <a:ext cx="4572000" cy="2819520"/>
                  </a:xfrm>
                  <a:prstGeom prst="rect">
                    <a:avLst/>
                  </a:prstGeom>
                  <a:ln w="0">
                    <a:noFill/>
                  </a:ln>
                </p:spPr>
              </p:pic>
            </p:oleObj>
          </a:graphicData>
        </a:graphic>
      </p:graphicFrame>
      <p:pic>
        <p:nvPicPr>
          <p:cNvPr id="357" name="Picture 5" descr="main-45.jpg">
            <a:hlinkClick r:id="rId3"/>
          </p:cNvPr>
          <p:cNvPicPr/>
          <p:nvPr/>
        </p:nvPicPr>
        <p:blipFill>
          <a:blip r:embed="rId4"/>
          <a:stretch/>
        </p:blipFill>
        <p:spPr>
          <a:xfrm>
            <a:off x="-9360" y="6048360"/>
            <a:ext cx="2295360" cy="73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piratory Protection</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wo Basic Typ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ir Purifying Respirator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mosphere Supplying Respirator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38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5DBF-20B0-4035-83D2-A194D6AFD4B4}"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d Protection</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verhead hazar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osed electrical condu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mets rated as Types 1 or 2 and providing Class A, B or C protection</a:t>
            </a:r>
            <a:br>
              <a:rPr sz="2900"/>
            </a:br>
            <a:br>
              <a:rPr sz="2900"/>
            </a:br>
            <a:r>
              <a:rPr b="0" lang="en-US" sz="2900" spc="-1" strike="noStrike">
                <a:solidFill>
                  <a:srgbClr val="000000"/>
                </a:solidFill>
                <a:latin typeface="Tw Cen MT"/>
              </a:rPr>
              <a:t>A = General impact, 2200 volts protection</a:t>
            </a:r>
            <a:br>
              <a:rPr sz="2900"/>
            </a:br>
            <a:r>
              <a:rPr b="0" lang="en-US" sz="2900" spc="-1" strike="noStrike">
                <a:solidFill>
                  <a:srgbClr val="000000"/>
                </a:solidFill>
                <a:latin typeface="Tw Cen MT"/>
              </a:rPr>
              <a:t>B = 20,000 volts protection</a:t>
            </a:r>
            <a:br>
              <a:rPr sz="2900"/>
            </a:br>
            <a:r>
              <a:rPr b="0" lang="en-US" sz="2900" spc="-1" strike="noStrike">
                <a:solidFill>
                  <a:srgbClr val="000000"/>
                </a:solidFill>
                <a:latin typeface="Tw Cen MT"/>
              </a:rPr>
              <a:t>C = Bump protection, no electrical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8EFF-D06D-42A2-A4A5-D6B11A31169D}"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rm &amp; Hand Protection</a:t>
            </a:r>
            <a:endParaRPr b="0" lang="en-US" sz="4400" spc="-1" strike="noStrike">
              <a:solidFill>
                <a:srgbClr val="775f55"/>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from chemicals and other substances, temperature extremes, sharp objects</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juries include cuts, abrasions, burns, amputations, shock, chemical absorption</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love protection information to be obtained from the manufacturer</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ion includes gloves, sleeves, hand pads, wristlets, etc.</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ubber insulating equipment needed for electrical workers</a:t>
            </a:r>
            <a:endParaRPr b="0" lang="en-US" sz="29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DD6E-F908-4C10-9CF8-25239216494E}"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oot  &amp; Leg Protection</a:t>
            </a:r>
            <a:endParaRPr b="0" lang="en-US" sz="44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from falling or rolling objects, objects piercing the sole, electrical hazards, molten metal, hot surfaces, slippery surfa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hoes / boots may provide impact protection, compression protection, puncture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eggings protect the lower legs and feet from molten metal and welding spark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7533-3F0B-45A3-BE84-82C5B7DA0454}"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rso Protection</a:t>
            </a:r>
            <a:endParaRPr b="0" lang="en-US" sz="44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zards include heat, splashes from liquids, impacts, cuts, and radi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juries include heat burns, radiation burns, and chemical burns, lacerations, and abras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quipment includes vests, jackets, aprons</a:t>
            </a:r>
            <a:br>
              <a:rPr sz="2900"/>
            </a:br>
            <a:r>
              <a:rPr b="0" lang="en-US" sz="2900" spc="-1" strike="noStrike">
                <a:solidFill>
                  <a:srgbClr val="000000"/>
                </a:solidFill>
                <a:latin typeface="Tw Cen MT"/>
              </a:rPr>
              <a:t>coveralls, and full body suits.</a:t>
            </a:r>
            <a:endParaRPr b="0" lang="en-US" sz="2900" spc="-1" strike="noStrike">
              <a:solidFill>
                <a:srgbClr val="000000"/>
              </a:solidFill>
              <a:latin typeface="Tw Cen MT"/>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660D-2311-435A-BF7F-B335179D2A38}"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are, Use, Maintenance, &amp; Disposal of PPE</a:t>
            </a:r>
            <a:endParaRPr b="0" lang="en-US" sz="40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PE is available in various types and styl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ke sure that the PPE assigned to you fits properly and snugly</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n PPE regularly, following manufacturer’s suggestion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e familiar with the life expectancy of your PPE and dispose of when needed</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port any discomfort, problems or questions to your supervisor or safety manager</a:t>
            </a:r>
            <a:endParaRPr b="0" lang="en-US" sz="2900" spc="-1" strike="noStrike">
              <a:solidFill>
                <a:srgbClr val="000000"/>
              </a:solidFill>
              <a:latin typeface="Tw Cen MT"/>
            </a:endParaRPr>
          </a:p>
        </p:txBody>
      </p:sp>
      <p:sp>
        <p:nvSpPr>
          <p:cNvPr id="39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1B9B-E282-44CF-BA5B-CA122FBE2F1C}"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ersonal Protective Equipment</a:t>
            </a:r>
            <a:endParaRPr b="0" lang="en-US" sz="4400" spc="-1" strike="noStrike">
              <a:solidFill>
                <a:srgbClr val="775f55"/>
              </a:solidFill>
              <a:latin typeface="Tw Cen MT"/>
            </a:endParaRPr>
          </a:p>
        </p:txBody>
      </p:sp>
      <p:sp>
        <p:nvSpPr>
          <p:cNvPr id="40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al Discuss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Question and Answer Period</a:t>
            </a:r>
            <a:endParaRPr b="0" lang="en-US" sz="2900" spc="-1" strike="noStrike">
              <a:solidFill>
                <a:srgbClr val="000000"/>
              </a:solidFill>
              <a:latin typeface="Tw Cen MT"/>
            </a:endParaRPr>
          </a:p>
        </p:txBody>
      </p:sp>
      <p:sp>
        <p:nvSpPr>
          <p:cNvPr id="40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1340-B0F9-4D9D-9345-15AC8696CEE6}"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Federal OSHA Standard</a:t>
            </a:r>
            <a:br>
              <a:rPr sz="4000"/>
            </a:br>
            <a:r>
              <a:rPr b="0" lang="en-US" sz="4000" spc="-1" strike="noStrike">
                <a:solidFill>
                  <a:srgbClr val="775f55"/>
                </a:solidFill>
                <a:latin typeface="Tw Cen MT"/>
              </a:rPr>
              <a:t>Overview</a:t>
            </a:r>
            <a:endParaRPr b="0" lang="en-US" sz="40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lies to general industr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overns the use, selection, maintenance, fit and disposal of Personal Protective Equip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assess hazards in their</a:t>
            </a:r>
            <a:br>
              <a:rPr sz="2900"/>
            </a:br>
            <a:r>
              <a:rPr b="0" lang="en-US" sz="2900" spc="-1" strike="noStrike">
                <a:solidFill>
                  <a:srgbClr val="000000"/>
                </a:solidFill>
                <a:latin typeface="Tw Cen MT"/>
              </a:rPr>
              <a:t>workplace and select appropriate PP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C2DC-9A40-46A7-9854-C81304CE26DE}"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SHA Standard</a:t>
            </a:r>
            <a:br>
              <a:rPr sz="4000"/>
            </a:br>
            <a:r>
              <a:rPr b="0" lang="en-US" sz="4000" spc="-1" strike="noStrike">
                <a:solidFill>
                  <a:srgbClr val="775f55"/>
                </a:solidFill>
                <a:latin typeface="Tw Cen MT"/>
              </a:rPr>
              <a:t>General Requirements</a:t>
            </a:r>
            <a:endParaRPr b="0" lang="en-US" sz="40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to select PPE based on hazards present or likely to be presen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hibits use of defective / damaged equipmen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s training employees in PPE use, fit, maintenance, life expectancy &amp; disposal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C124-E91D-49D3-A7EA-A4D2167CDCF3}"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zard Assessment</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required to conduct a workplace hazard assess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es exposed to identified hazards are to be provided with appropriate PP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certify in writing that the hazard assessment has been complet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maged or defective PPE is not to be used</a:t>
            </a:r>
            <a:endParaRPr b="0" lang="en-US" sz="2900" spc="-1" strike="noStrike">
              <a:solidFill>
                <a:srgbClr val="000000"/>
              </a:solidFill>
              <a:latin typeface="Tw Cen MT"/>
            </a:endParaRPr>
          </a:p>
        </p:txBody>
      </p:sp>
      <p:sp>
        <p:nvSpPr>
          <p:cNvPr id="36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1C42-AB85-4F6E-9674-2E6004C96FA8}"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ining</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es to be instructed when PPE is necessary, what type, how to wear it, limitations, proper care, maintenance, useful life, and disposal</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s are to certify that training has been completed and that employees understand i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C157-B1A6-4053-AC96-B4A0BEA4D65D}"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SHA Standard</a:t>
            </a:r>
            <a:br>
              <a:rPr sz="4000"/>
            </a:br>
            <a:r>
              <a:rPr b="0" lang="en-US" sz="4000" spc="-1" strike="noStrike">
                <a:solidFill>
                  <a:srgbClr val="775f55"/>
                </a:solidFill>
                <a:latin typeface="Tw Cen MT"/>
              </a:rPr>
              <a:t>General Requirements</a:t>
            </a:r>
            <a:endParaRPr b="0" lang="en-US" sz="40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TYPES OF PPE:</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othing, equipment, respiratory devices, protective shields and barrier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 eyes, face, head, torso and extremities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cess hazards, environment, chemicals, radiological, or mechanical hazards</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pable of causing injury or impairment through absorption, inhalation, or physical contact </a:t>
            </a:r>
            <a:endParaRPr b="0" lang="en-US" sz="29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91D6-B575-4C55-8CF6-5AD079863417}"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PPE</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ye &amp; Face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aring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spiratory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ad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m &amp; Hand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ot &amp; Leg Protec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rso Protection</a:t>
            </a:r>
            <a:endParaRPr b="0" lang="en-US" sz="2900" spc="-1" strike="noStrike">
              <a:solidFill>
                <a:srgbClr val="000000"/>
              </a:solidFill>
              <a:latin typeface="Tw Cen MT"/>
            </a:endParaRPr>
          </a:p>
        </p:txBody>
      </p:sp>
      <p:sp>
        <p:nvSpPr>
          <p:cNvPr id="37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50A8-9EF0-4986-ACB7-B4C6A258C015}"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ye &amp; Face Protection</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 from flying particles, molten metal, liquid chemicals, acids, caustic liquids, chemical gases or vapors, and light radiation</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deshield protection needed for flying particl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safety prescription lenses or eye protection worn over regular glasses or contact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tection needed to cover multiple hazard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50EE-EEDC-4152-A2FF-AF9242997ABD}"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earing Protection</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d in high noise areas, depending on the duration of worker exposure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ng term exposure can result in permanent hearing loss or impairmen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perly worn or maintained PPE will not sufficiently reduce the noise leve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PE - earplugs or earmuff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5213-BD85-474B-857E-C57C71EF70CA}" type="slidenum">
              <a:rPr b="1" lang="en-US" sz="1200" spc="-1" strike="noStrike">
                <a:solidFill>
                  <a:srgbClr val="ffffff"/>
                </a:solidFill>
                <a:latin typeface="Book Antiqua"/>
              </a:rPr>
              <a:t>&lt;number&gt;</a:t>
            </a:fld>
            <a:endParaRPr b="0" lang="en-US" sz="12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07T12:48:22Z</dcterms:created>
  <dc:creator>www.online-templatestore.com</dc:creator>
  <dc:description/>
  <dc:language>en-US</dc:language>
  <cp:lastModifiedBy>Mouton</cp:lastModifiedBy>
  <cp:lastPrinted>1996-06-07T12:46:36Z</cp:lastPrinted>
  <dcterms:modified xsi:type="dcterms:W3CDTF">2011-02-11T11:15:39Z</dcterms:modified>
  <cp:revision>8</cp:revision>
  <dc:subject/>
  <dc:title>Personal Protective Equipment  An Employee Awareness &amp; Training Course</dc:title>
</cp:coreProperties>
</file>